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0AA-9998-4530-8AD6-BFB25C12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8638-B9BE-4DE5-96BD-BCD153D3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F5E-8F62-4F5C-9DF7-631089AE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A021-2412-474C-941D-E08AB786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59B-4A12-45E9-9CDA-24855A09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E7C-5009-480C-B02C-F5B40B16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75A-8C8C-40BE-85C3-021EC448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A120-488A-4F00-A180-39486E93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5DD-91CD-43F9-A4C4-9201A728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68B6-36A5-4463-950C-17841A1F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8B5-98DC-42C6-8921-06427D3A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D50-8E0C-4C00-9C2E-4BBE3554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09BA-30F3-49EB-A791-30ED82021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fricamap"/>
          <p:cNvPicPr/>
          <p:nvPr/>
        </p:nvPicPr>
        <p:blipFill>
          <a:blip r:embed="rId1"/>
          <a:stretch/>
        </p:blipFill>
        <p:spPr>
          <a:xfrm>
            <a:off x="6134040" y="333360"/>
            <a:ext cx="3009960" cy="2300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ing the Draft Concept Note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I. Hoeschle-Zele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593244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aborative effort by colleagues from ICRISAT, ILRI, CIAT, ICRAF, AfricaRice, IMWI, IFPRI, AVRCD, and IIT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partners, others will be part of the further project design process, project implementation and disseminati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outputs for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leader: IITA</a:t>
            </a:r>
            <a:br>
              <a:rPr sz="32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 flipV="1">
            <a:off x="4067280" y="98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verall objective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rove livelihoods through sustainably increased productivity of cereal-legume-tree-horticulture-livestock integrated farming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roject addressing 3 cereal-based farming systems (compon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­ ma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orghum/mi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ri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ographic focu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92088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rthe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han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orthern, Upper East, Upper West Regions;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ze, rice, sorghum, pearl mi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outhe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Mali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ikasso Region (similar agro-eco zone, extends into drier areas north); sorghum, pearl millet, ma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verty level, food insecurity risk, gender inequity, potential for productivity improvement with manifold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sites: tbd at thi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&amp;E: Impact evaluation, scaling up and out assessments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d by IFPRI, separate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duration: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ding: US$ 3.2m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3:13:07Z</dcterms:created>
  <dc:creator>zeledon</dc:creator>
  <dc:description/>
  <dc:language>en-US</dc:language>
  <cp:lastModifiedBy>PBallantyne</cp:lastModifiedBy>
  <dcterms:modified xsi:type="dcterms:W3CDTF">2012-01-10T07:22:25Z</dcterms:modified>
  <cp:revision>7</cp:revision>
  <dc:subject/>
  <dc:title>Sustainable Intensification of Cereal-based Farming Systems in the Sudano-Sahelian Zone</dc:title>
</cp:coreProperties>
</file>